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008-8D74-419A-A42D-E1DE7944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3CA-A387-4C1A-84D0-A42008A0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6DF-524F-4A42-9B3D-75373A0A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A7C-AA64-463A-904E-1FD03BB6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7B1-5CFF-4DAE-A740-0D6F8C7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95D-0DBC-46FC-A9D4-D84203F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AFE-A9E7-4066-8936-234A3E9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88B-9637-4802-AE74-81250C21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78A-54AA-4804-9D15-9C6EBE42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D0A-0EE5-4146-A90B-93F0477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7F8-28DB-448C-A856-1EF523D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A9E-D8DD-420C-8A86-9FAB173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6111-592E-454E-9361-61533D98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4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νωριμία με συμμαθητές και καθηγητ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άλυση θέματος σε επιμέρους παραρτήματ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483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ιαχωρισμός των μαθητών σε 4 ομάδ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ζήτηση και αξιολόγηση αξιόπιστων και μη πληροφορ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ύνταξη ερωτηματολογί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υμπλήρωση ερωτηματολογίων από πολίτες διαφόρων ηλικ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ξιολόγηση και επιλογή τοίχου για σχεδιασμό έργ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λοκλήρωση εργασ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στατιστικών από τα ερωτηματολόγ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ομαδικών και ατομικών ημερολογί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user03</cp:lastModifiedBy>
  <dcterms:modified xsi:type="dcterms:W3CDTF">2013-01-15T11:59:42Z</dcterms:modified>
  <cp:revision>4</cp:revision>
  <dc:subject/>
  <dc:title>52</dc:title>
</cp:coreProperties>
</file>